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AAE-3EF0-439F-940A-2A17BE0F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666-B45D-4AED-88E4-D06A7C7A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10B-BBB0-475F-9CE8-38EE630B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6A9-E148-4F72-9FCE-972E6BE1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B61C-E73C-4D40-A3FF-4092069C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7CAE-C7E8-4702-BBF4-5CB08749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BF07-7D6F-4EAE-A3C5-9585815F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459C-930C-4A70-893D-9CE315A8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C935-A707-4CF4-89BE-D5AB4F72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E9C1-C242-4E5B-85D0-C43AC960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05C7-85ED-4AF9-A7F1-AD03969F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E83-655F-4FB4-AD74-6829CBBA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BE0A-29F5-48D4-8C19-7B9B9B1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26CD-7906-4F18-BB81-40CD487D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52A4-CF99-4969-82E5-B7EBC953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AD73-9423-42DB-8FBA-EFF00B15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4830-30CA-4955-A7EC-9920D829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9D08E-8973-474E-B9FF-99EF0B2A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AA69-CBD2-474F-946D-DB743812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5281-1BA0-40CB-B297-638E7E67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F67E5-42B6-452C-9CA7-8170BC90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2EA5-9F6D-45F3-97B1-6F4A9FAC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253-D949-4806-A557-6A8A2B81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8305F-086D-493B-8F08-6CAD57AA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C411-D0B8-4544-B3E0-18E8BB2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D703-55C3-49B2-8BC4-461C889C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D304-5ACC-4E0F-BE99-09DEBDE1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2DA6-9B00-4623-BC6B-D88F70C1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20E3-1B9E-449F-9C33-F7F1F73E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B08C-5C8F-4E35-B195-E9037211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5FD0-FB27-44A1-82C1-8E58B2A8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8A21-4F27-49F3-962B-43C7B2A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2923-DC4F-4FF6-9DC3-4699701A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722-A759-4B88-A853-AC07C698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043F0-05DB-41DE-977D-5CB2C158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8DAD-ED21-41B3-A1EF-0319B041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CD142-30DB-48E2-93BC-BB215D87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9F9E-3237-4252-9D46-E9405AA2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B9545-0EA9-4DA5-8052-EF539EA2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CE5B-A48F-474D-852B-21D187E7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3DC71-A36F-4ED8-BE51-BBF0A616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FD9C-DEB0-42FD-9EE9-B6E30697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9AD3-00BF-473A-8627-412F9352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EA8E8-F58D-4980-8235-FFDDD295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9EC-6F77-4B45-96E3-9729070E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77EB-EAC0-494C-8ED7-30F6AAA1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1AFAE-7D68-4C23-84E6-3F97883F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9E2A6-C481-4F22-A714-E6818D6F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03006-668E-44B2-8B1D-D87AB38F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0B6B7-4974-4454-A432-623CA328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6B91B-DCF2-4C74-A80E-4BB9B284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82634-6595-48F5-9EEA-833F8B02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F3780-E2A9-46F3-B504-1FDF0E93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88BF-C9EF-4CCC-9861-4DB4BB00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E6DF5-ADD5-4907-ADFD-2E929E49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9CF-EBA2-4C4B-B674-0729E61B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1756-91DF-4C71-A0BE-71DEEDCA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D2B-184A-4A4E-B19F-98D8E964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A5B-AD22-489D-A3F9-4C6B666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3A5-176F-48D8-93FD-BE20B40D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1D063-3F71-4C2A-B7DF-00967C8EB629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ABDB2-AEC1-4E48-A2B5-A637606C66CA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3B599-87E5-4AEE-B881-8F1CDDCA574B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8766D-5272-496A-A576-68C60BFE498C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8E606-8426-4261-B3C5-334E370C6FA6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onstantia"/>
              </a:rPr>
              <a:t>ГЛАГОЛ </a:t>
            </a:r>
            <a:br>
              <a:rPr sz="8000"/>
            </a:br>
            <a:r>
              <a:rPr b="0" lang="ru-RU" sz="6000" spc="-1" strike="noStrike">
                <a:solidFill>
                  <a:srgbClr val="262626"/>
                </a:solidFill>
                <a:latin typeface="Constantia"/>
              </a:rPr>
              <a:t>КАК ЧАСТЬ РЕЧИ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7989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197000"/>
          <a:ext cx="8229600" cy="5433840"/>
        </p:xfrm>
        <a:graphic>
          <a:graphicData uri="http://schemas.openxmlformats.org/drawingml/2006/table">
            <a:tbl>
              <a:tblPr/>
              <a:tblGrid>
                <a:gridCol w="1400040"/>
                <a:gridCol w="1643040"/>
                <a:gridCol w="1643400"/>
                <a:gridCol w="1896840"/>
                <a:gridCol w="1646280"/>
              </a:tblGrid>
              <a:tr h="91440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33036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т,  -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ат, -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1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глагола 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пределяется по окончанию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2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без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определяется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по инфинитиву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Ко </a:t>
            </a:r>
            <a:r>
              <a:rPr b="1" lang="en-US" sz="4000" spc="-1" strike="noStrike">
                <a:solidFill>
                  <a:srgbClr val="262626"/>
                </a:solidFill>
                <a:latin typeface="Century Gothic"/>
              </a:rPr>
              <a:t>II</a:t>
            </a: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 спряжению глагола относятс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2014560"/>
            <a:ext cx="80647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се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ы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на –и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кроме брить, стели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ов на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–е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идеть, обидеть, смотреть, ненавидеть, зависеть, терпеть, верте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а на  -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а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гнать, держать, слышать, дышать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се остальные глаголы относятся к 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I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спряжению</a:t>
            </a:r>
            <a:r>
              <a:rPr b="0" lang="ru-RU" sz="22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Разноспрягаемые глаголы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хоте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чти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и производные от них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ид глагола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озврат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переход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спряжени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Не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наклонение,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время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лицо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число,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род (если есть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2296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Инфинитив</a:t>
            </a:r>
            <a:br>
              <a:rPr sz="3600"/>
            </a:b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твечает на вопросы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Показатели инфинитив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Суффиксы  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и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ч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ст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Инфинитив - это </a:t>
            </a:r>
            <a:br>
              <a:rPr sz="3600"/>
            </a:br>
            <a:r>
              <a:rPr b="1" lang="ru-RU" sz="3600" spc="-1" strike="noStrike" u="sng">
                <a:solidFill>
                  <a:srgbClr val="00b050"/>
                </a:solidFill>
                <a:uFillTx/>
                <a:latin typeface="Century Gothic"/>
              </a:rPr>
              <a:t>неизменяемая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форма глагола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этому в предложении может бы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подлежащи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Century Gothic"/>
              </a:rPr>
              <a:t>Читать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– всегда полезно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Его желание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труд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мне всегда нравилось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дополн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Я посоветовал ему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обрат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к учителю), входить в состав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глагольного сказуемого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Я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решил продолжить уч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) и т.д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ля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 инфинитив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характерны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категория вид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делать? – несовершенный ви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елать –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вершенный в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переходность/непереходнос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(сказать (что?) правду – переходный, сказаться больным – непереходный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возвратность/невозвратность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объясниться – объяснить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залог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читать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действи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, читаться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страда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</a:t>
            </a:r>
            <a:r>
              <a:rPr b="1" lang="ru-RU" sz="4400" spc="-1" strike="noStrike">
                <a:solidFill>
                  <a:srgbClr val="00b050"/>
                </a:solidFill>
                <a:latin typeface="Century Gothic"/>
              </a:rPr>
              <a:t>наклонения</a:t>
            </a: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 глагола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Наклонение глагол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– это грамматическая категория, которая выражает отношение действия к реальност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Изъяв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Повел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Сослага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услов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времени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Изменени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глагола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по временам свойственно изъявительному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наклонению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настоящ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прошедш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будущее врем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830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5:31:51Z</dcterms:created>
  <dc:creator>Людмила</dc:creator>
  <dc:description/>
  <dc:language>en-US</dc:language>
  <cp:lastModifiedBy>Людмила</cp:lastModifiedBy>
  <dcterms:modified xsi:type="dcterms:W3CDTF">2018-03-11T22:16:55Z</dcterms:modified>
  <cp:revision>23</cp:revision>
  <dc:subject/>
  <dc:title>Глагол как часть речи</dc:title>
</cp:coreProperties>
</file>